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30EBA2D-2018-4715-A6F6-8B2C63F59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10 minutes for both the student and teach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lated to graphical misconce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7E00-88D6-4785-BC02-46530D08E6B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Bullet 4 re use of vertex form: . . .which is demonstrated through students using the same process (algebraic to graphical) regardless of the tas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843F-D2BD-4D77-BD76-F3647C51A5F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ullet 2: Say "Quadratic" and the visual of a parabola, a y=x^2 function equation, and the quadratic formula all appear in the student's mind's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B44C-FFE7-4AAF-BD35-06951DE94C6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9BB3-DEC7-404F-83F0-C11071ECA77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ABAD-69CD-4115-8C46-4873A6AB2D2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6ABE-6D71-418A-8DF1-CBC6C6952A0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7149-DD5E-497E-83AD-D291DFA7110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2EB2A-E8C6-481F-9B37-4A14CF0729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7ACA7-D4AF-4389-8BBC-601611A5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9F96-5EA0-4B61-98BD-9361F504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F2D8-C55B-4430-A523-88DE4CE80D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B4DC9-0D2F-4AD2-8B0A-7280FBCA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A5DB0-A29F-4940-8894-DD357211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868C6-5246-4A4D-BA15-69FFF67C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8D0E9-7AE0-41D9-921E-D5608FCE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A2115-FB03-474F-A783-EB6630D8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19898-1B2D-4581-848F-6F315AEC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5A761-E500-48C0-8B09-DBD05F1E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ECEE-6C04-4145-BDC9-886A04CD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997A0-342C-46FF-8330-9B48480F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2DEEF-CB45-41D4-977D-3B268EE4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C336C-7330-40CA-9E7C-9236263D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BECD7-0ADB-4F95-9DC5-6DA6CC0E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5D390-3D64-4DBB-8EB1-F7D953EB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A5AB-81E6-4011-B5C8-E0565B10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D4FD-8C12-49B0-AE80-C747ABFD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DA68-FE8C-440F-B907-2205F96A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FDD3-7EAE-4E07-82FB-AC10D537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5A609-CD4B-48A7-8481-39981EC3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6927A-5036-4BA0-AEAB-2946E84E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14DBE-E2E8-44B7-B061-8BAC1875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7F92-007D-418C-9F7D-F194977F76DC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4EEE-E7A1-439B-A718-86CD10F84491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and Graphical Represent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400" y="223164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a graph as a sketch through three or four points and fail to connect to properties of classes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recognize the ways in which the graph provides visual insight into the behaviour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il to connect the graphical representation to other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comprehend the beauty/power and significance of the graph (because there is an overdependence on the procedure of grap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221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and Algebraic Representations 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44600" y="259848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symbols before they understand the meanings behind the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a tendency to use standard form over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sinterpret the point (b,c) as the vertex of the standard form y=ax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about the use of V(h,k) in the form y=x(a-h)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recognize the role or significance of the x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85840" y="190476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two different ways of representing quadratic relations (algebraic and graphical) and have never built the bridge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difficulty holding two (or more) different representations/ideas about the same concept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understand the relevance of a solution to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of why a parabola shifts horizontally or ver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itor student thinking to expose misconstructs and to allow deeper connections to be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open and prepared to communicate with students in terms of confronting, discussing, and dealing with conflicting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judging reasonableness of the answer and appropriate types of solutions, which requires students to understand the numb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connecting various representations of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void sequential presentation of the forms and instead simultaneously introduce vertex and standard form, emphasize the differences between them, and reveal the underlying thoughts that generated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nect a problem to the graph and the vertex to avoid isolated and unconnected knowledge in the student’s cognitiv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students solve problems graphically before algebraically in order to build better connections between the graph and the equation (algebraic to graphic doesn’t result in the same depth of understa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well-designed set of tasks or examples that emphasize the distinction between the quadratic formula and the quadra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ose students to quadratic equations that cannot be factored in order to expand their understanding that factoring is not always the appropriat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2800" y="230652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on quantitative relationships that can be represented by both linear and quadra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ine the ways in which quadratic growth differs from linear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eel District School Board</cp:lastModifiedBy>
  <dcterms:modified xsi:type="dcterms:W3CDTF">2009-08-26T03:32:45Z</dcterms:modified>
  <cp:revision>150</cp:revision>
  <dc:subject/>
  <dc:title>Math GAINS 2008-09</dc:title>
</cp:coreProperties>
</file>